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FBA-39B0-448F-BC83-2DEDF140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961-FE51-42CE-914B-F5DAC9C7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FEA-91F5-4CC1-AD7E-72121D22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EFC-0129-4359-B9D4-54220477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BD3E-2C9E-49EE-86E9-1C22EC20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06E0-F03C-4EB7-B523-43A9DD6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CD91-5B4A-4091-9C64-9B3A5110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7300-B078-413B-8169-FC32888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A983-409D-4313-9FA0-594B340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9616-4671-47AF-8690-AC6806C1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EC0C-033D-4A09-A4E4-97B4056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868-422F-49F1-AB37-4395396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3BFF-75DD-4AE7-9CAD-FACFFBD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A8C-A309-4BD4-9AA6-13370F1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4E27-6BC0-4C53-AAF0-04311176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4C1-2807-4C6F-B1CA-F94C3F0E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21C8-95FC-4969-82DF-50271435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ED0-A4C9-4C13-9581-8753799B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23C-D64C-465D-B355-37A2CC3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BB7-AAFC-4C09-96E9-B690EA43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104-28ED-4A4F-AEC4-443FD7D5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179-ECEF-4EFC-9F58-AD610331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A2E-9A7D-4239-8EE6-AA39CA1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C3D-BA78-4397-9C2C-52532CD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157-D87E-462D-A880-1D97CE714C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BF8-4923-44CB-A1E1-E4D0217410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cclesiastes</a:t>
            </a:r>
            <a:br>
              <a:rPr sz="4400"/>
            </a:br>
            <a:r>
              <a:rPr b="0" i="1" lang="en-US" sz="4400" spc="-1" strike="noStrike">
                <a:solidFill>
                  <a:srgbClr val="eaeaea"/>
                </a:solidFill>
                <a:latin typeface="Souvenir Lt BT"/>
              </a:rPr>
              <a:t>Life Under the Sun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Us A K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it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94-2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cclesiastie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heleth - “the preach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Who Was The Author?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 certainty, but it has his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of David (1: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g of Israel in Jerusalem (1: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wisdom from above (1: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ther author seriously consid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question that it is inspired writings, so we can benefit from its’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su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on earth from birth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alue of life when compared to pleasures and problems it b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cannot rely on things in this life fo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according to God’s standards provides a plan for life under the 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rry, empty, worthless, fl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ures of life are not la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has no value without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ing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’s: Experiences learned from li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: Knowledge gained from God’s 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se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learns from his own mistakes and those of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ed and in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does not learn from the experiences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gnorant of the things that matter in this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young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lacks the experiences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one”; unedu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ïve by placing trust in worldly poss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seek God’s wis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01:04:24Z</dcterms:created>
  <dc:creator>Frank D Vines</dc:creator>
  <dc:description/>
  <dc:language>en-US</dc:language>
  <cp:lastModifiedBy>Frank D Vines</cp:lastModifiedBy>
  <dcterms:modified xsi:type="dcterms:W3CDTF">2005-09-20T15:29:26Z</dcterms:modified>
  <cp:revision>9</cp:revision>
  <dc:subject/>
  <dc:title>Ecclesiastes Life Under the Su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